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3B4-9F60-4BC7-8B7E-298BCF4D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6B4-D226-4964-BF77-EFAF800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BD2-2294-47B6-A325-1B9C3B51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FAE-41C1-405D-9E32-727DDC30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C50-A9FF-42C8-9F4C-DE432D2A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D98-0D8B-40D5-95D0-1398CA90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796-5718-49E3-9166-E4C5C993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9DF-2454-45D1-B00D-158460D2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F6B-830C-4DAD-87DD-2DCCBBC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33D-B0BA-4544-9AE2-3033A8B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D88-14A1-4577-9DEA-AB1AAA49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E20-ADE3-4DB5-BAD5-20E53F43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BC28-ADB0-4395-A66B-82CDE6196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Vokabel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ad - deg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chtemperatur – high tempera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eftemperatur – low tempera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r Wetterbericht – weather re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e Wettervorhersage – weather foreca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e Nachricht – the new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e Nachrichten – the news re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r Sonderbericht – special re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t – wi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zlich Willkommen  bei – welcome t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ese – this (week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anal – chann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ndung - chann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8:37:31Z</dcterms:created>
  <dc:creator>ahart</dc:creator>
  <dc:description/>
  <dc:language>en-US</dc:language>
  <cp:lastModifiedBy>ahart</cp:lastModifiedBy>
  <dcterms:modified xsi:type="dcterms:W3CDTF">2012-11-02T17:28:57Z</dcterms:modified>
  <cp:revision>12</cp:revision>
  <dc:subject/>
  <dc:title>Slide 1</dc:title>
</cp:coreProperties>
</file>